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0D9-1D4E-456B-B840-2219AD61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3E3-E19D-4FE9-84DD-90A894BE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486-43AB-4DD6-A4C4-D227BE27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BBF-D900-4E82-9A51-6DBA7A82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DE9-1F94-4F72-9B37-04C02E0F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1157-B7C8-4E43-A7CF-3A375FA8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511E-1AB4-4716-A8E5-FB87482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3A02-C378-4E00-8A60-50F55420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4C15-1C0B-423C-B6FC-0F397BE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8DA7-08DE-40F0-A842-E6FDD918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2C2-C627-4A65-9E24-7C4AB47E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3F9-A128-4176-882A-BEB6E2D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1758-B509-4945-B780-DFF8D60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A1A4-2091-4E38-B1B1-E740F52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2503-4B7B-4CF2-AD37-8EC410B9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1B08-79F0-4B26-B8C8-15930CEE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0AC8-F8DC-4187-930F-DCB9F18B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253-D99A-4CB8-9BE2-8E5D7EF0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7B1-EF24-47B8-81DD-99A573F1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11B-402E-4551-8448-98C2B5B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8D7-0A19-4B6E-904E-3DD9A4A6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E48-7E0E-4F1A-8D56-07BF817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C72-A399-484C-8EC5-DBA66F3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6F3-566C-46DC-AB7C-3D677C47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7A80-43B9-4A05-9B48-F6F9E991F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EF3-8747-44B5-B168-617D7F5C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EMISSIONS REDUCTION USING HYDROGEN</a:t>
            </a:r>
            <a:br>
              <a:rPr sz="3700"/>
            </a:b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  FROM PLASMATRON FUEL CONVERTERS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TextBox 2" descr=""/>
          <p:cNvPicPr/>
          <p:nvPr/>
        </p:nvPicPr>
        <p:blipFill>
          <a:blip r:embed="rId1"/>
          <a:stretch/>
        </p:blipFill>
        <p:spPr>
          <a:xfrm>
            <a:off x="1322280" y="337176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tron fuel converters provide electrical discharge in flowing gases of hydrocarbon fuels and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generation of reactive species in the following gases along with the increased mixing accelerates reformation of hydrocarbon fuels into hydrogen rich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be utilised for increase in gas stream enthalpy,futher accelerating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(contd…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ost provided by the plasma can facilitate partial oxidation reactions with negligible soot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ideal stoichiometric conditions the partial oxidation reaction 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Hm + n/2 O2           nCO +m/2 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othermic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continuos ignition at the entrance of the fuel and helps in the gasification of f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657600" y="44956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4343400" y="380988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366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052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DVANTA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potential to increase gasoline engine efficiency by 20 to 2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potentially reduce U.S. oil imports by 1.5 million barrel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duce diesel engine exhaust emissions by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modest engine modifications,but no major redesign of th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reason behind introducing this type of advancements is that it is our responsibility to protect our environment from emission haza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1170000" y="413388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CONTENTS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PLASM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-a-day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become a major threat to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hicular exhaust(NOx,CO,HC etc…) are mainly responsible for the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MATRON fuel converter technology is the new technique introduced in this field to reduce the concentration levels of e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ABOUT PLASMATRON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s have long known that adding hydrogen to gasoline makes an engine run cleaner and more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mid-1990s, scientists at the Massachusetts Institute of Technology (MIT) began looking at plasma technology as a possible solution to thi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itable for both fu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or exha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-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SCHEMATIC FIGURE OF                                        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PLASMATRON FUEL CONVERTER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Picture 4" descr="plas__carb"/>
          <p:cNvPicPr/>
          <p:nvPr/>
        </p:nvPicPr>
        <p:blipFill>
          <a:blip r:embed="rId1"/>
          <a:stretch/>
        </p:blipFill>
        <p:spPr>
          <a:xfrm>
            <a:off x="1600200" y="2057400"/>
            <a:ext cx="61722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Emission contro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Fuel pre-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xhaust after-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Plasmatron fuel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hermal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 Low curr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LOW ENGINE EMISSION CONCEP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4290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1992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04812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56386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143000" y="2743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el 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657600" y="2666880"/>
            <a:ext cx="12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nboard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lasmatronFuel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095880" y="2895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ltra lean Burn Gasolin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600200" y="18288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2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267080" y="198108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Hydrogen-rich gas (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+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792468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828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9343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32004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8153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477120" y="5562720"/>
            <a:ext cx="2666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educed pollutants (N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reased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676520" y="57150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7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32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H2-Assisted NOx Trap: Test Set-up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332240" y="3873600"/>
            <a:ext cx="1152720" cy="347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496880" y="4778280"/>
            <a:ext cx="1301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948040" y="4038480"/>
            <a:ext cx="0" cy="133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50960" y="4605480"/>
            <a:ext cx="81288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6200640" y="4057560"/>
            <a:ext cx="6080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10360" y="5348160"/>
            <a:ext cx="588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6804000" y="4778280"/>
            <a:ext cx="895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454120" y="346716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or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613320" y="3274920"/>
            <a:ext cx="0" cy="15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899400" y="441468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ail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332240" y="5173560"/>
            <a:ext cx="1152720" cy="347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97520" y="4062240"/>
            <a:ext cx="1800" cy="129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5"/>
          <p:cNvGrpSpPr/>
          <p:nvPr/>
        </p:nvGrpSpPr>
        <p:grpSpPr>
          <a:xfrm>
            <a:off x="2798640" y="4605480"/>
            <a:ext cx="244080" cy="347040"/>
            <a:chOff x="2798640" y="4605480"/>
            <a:chExt cx="244080" cy="347040"/>
          </a:xfrm>
        </p:grpSpPr>
        <p:sp>
          <p:nvSpPr>
            <p:cNvPr id="135" name="AutoShape 16"/>
            <p:cNvSpPr/>
            <p:nvPr/>
          </p:nvSpPr>
          <p:spPr>
            <a:xfrm>
              <a:off x="2880000" y="477900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7"/>
            <p:cNvSpPr/>
            <p:nvPr/>
          </p:nvSpPr>
          <p:spPr>
            <a:xfrm rot="10800000">
              <a:off x="2880000" y="460548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 rot="5400000">
              <a:off x="2792880" y="4697280"/>
              <a:ext cx="173880" cy="1627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9"/>
          <p:cNvSpPr/>
          <p:nvPr/>
        </p:nvSpPr>
        <p:spPr>
          <a:xfrm flipH="1">
            <a:off x="2962440" y="4778280"/>
            <a:ext cx="65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2881440" y="4692600"/>
            <a:ext cx="161640" cy="17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948040" y="403848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948040" y="537516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076400" y="5772240"/>
            <a:ext cx="22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ing Val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 flipV="1">
            <a:off x="2135160" y="4992480"/>
            <a:ext cx="65088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2984400" y="2712960"/>
            <a:ext cx="1166760" cy="555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851120" y="296388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1841400" y="26654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3595680" y="2300400"/>
            <a:ext cx="0" cy="411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00480" y="281952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 flipV="1">
            <a:off x="2414520" y="3117960"/>
            <a:ext cx="568440" cy="14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238560" y="197964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714996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3"/>
          <p:cNvSpPr/>
          <p:nvPr/>
        </p:nvSpPr>
        <p:spPr>
          <a:xfrm>
            <a:off x="3873600" y="396252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4"/>
          <p:cNvSpPr/>
          <p:nvPr/>
        </p:nvSpPr>
        <p:spPr>
          <a:xfrm>
            <a:off x="3886200" y="528336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5"/>
          <p:cNvSpPr/>
          <p:nvPr/>
        </p:nvSpPr>
        <p:spPr>
          <a:xfrm>
            <a:off x="201924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6141960" y="3971880"/>
            <a:ext cx="28440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H="1">
            <a:off x="6243480" y="400536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8"/>
          <p:cNvSpPr/>
          <p:nvPr/>
        </p:nvSpPr>
        <p:spPr>
          <a:xfrm>
            <a:off x="5486400" y="4048200"/>
            <a:ext cx="652320" cy="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477040" y="5343480"/>
            <a:ext cx="645840" cy="324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729400" y="396864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6126120" y="5270400"/>
            <a:ext cx="28404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 flipH="1">
            <a:off x="6227640" y="530388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3"/>
          <p:cNvSpPr/>
          <p:nvPr/>
        </p:nvSpPr>
        <p:spPr>
          <a:xfrm>
            <a:off x="5713560" y="526716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4839480" y="455760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k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5"/>
          <p:cNvSpPr/>
          <p:nvPr/>
        </p:nvSpPr>
        <p:spPr>
          <a:xfrm flipV="1">
            <a:off x="5911920" y="4228920"/>
            <a:ext cx="390600" cy="40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5924520" y="4734000"/>
            <a:ext cx="276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371600" y="609480"/>
            <a:ext cx="7315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iesel Engine Emissions Aftertreatment    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                        Concept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114800" y="3429000"/>
            <a:ext cx="178452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943600" y="350352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76520" y="3429000"/>
            <a:ext cx="1114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209680" y="2895480"/>
            <a:ext cx="180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144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haus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 (Oxygen ric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286000" y="45720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381720" y="20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00200" y="5257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629400" y="2970360"/>
            <a:ext cx="111456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914400" y="129528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876920" y="12952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7238880" y="396072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6553080" y="4508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9480" y="1905120"/>
            <a:ext cx="30481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4038480" y="1828800"/>
            <a:ext cx="43117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86000" y="2895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800600" y="2895480"/>
            <a:ext cx="14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267080" y="1828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sel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6172200" y="2514600"/>
            <a:ext cx="533520" cy="8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782760" y="1981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h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609480" y="5180040"/>
            <a:ext cx="7772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3:47:47Z</dcterms:created>
  <dc:creator>Mechanical Engineering Project</dc:creator>
  <dc:description/>
  <dc:language>en-US</dc:language>
  <cp:lastModifiedBy>Brigade</cp:lastModifiedBy>
  <dcterms:modified xsi:type="dcterms:W3CDTF">2011-12-10T17:20:54Z</dcterms:modified>
  <cp:revision>1</cp:revision>
  <dc:subject/>
  <dc:title>Mechanical Engineering Project</dc:title>
</cp:coreProperties>
</file>